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57C-C647-421E-9AF7-6A666FB8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CBF-347E-4CCB-9D6F-4102A32C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077-9685-463F-9A39-CB4BF678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AF1-C9C7-4BC4-B9E3-6A1D558A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438-9AD9-4BA6-996E-95B29DC5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0E1-639D-4477-8379-AF2FDBD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57F-6C04-41B5-8583-64582D7E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34D-1127-4D80-90B6-9B0B1A97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139-ABF3-42FB-BDD2-1E1819F8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179-EA49-45A2-9792-2AEF0350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DC1-FE4B-4B68-83CC-6EEF1E9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B3E-6FF4-4BE2-8408-E07C4B20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9440" indent="-250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9D2B-0850-4859-AA7A-9B267D20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1359000" y="914400"/>
            <a:ext cx="4419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REPORT OF GROUND MAGNETIC </a:t>
            </a:r>
            <a:endParaRPr b="0" lang="en-US" sz="1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SURVEY IN</a:t>
            </a:r>
            <a:endParaRPr b="0" lang="en-US" sz="1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" name="WordArt 18"/>
          <p:cNvSpPr txBox="1"/>
          <p:nvPr/>
        </p:nvSpPr>
        <p:spPr>
          <a:xfrm>
            <a:off x="1523880" y="160020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KATORI-JHIRIYA BLOCK </a:t>
            </a:r>
            <a:endParaRPr b="0" lang="en-US" sz="1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BALAGHAT</a:t>
            </a:r>
            <a:endParaRPr b="0" lang="en-US" sz="1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762120" y="609480"/>
            <a:ext cx="5638680" cy="883944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2"/>
          <p:cNvGraphicFramePr/>
          <p:nvPr/>
        </p:nvGraphicFramePr>
        <p:xfrm>
          <a:off x="3251160" y="6858000"/>
          <a:ext cx="66060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1160" y="6858000"/>
                    <a:ext cx="6606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5"/>
          <p:cNvSpPr/>
          <p:nvPr/>
        </p:nvSpPr>
        <p:spPr>
          <a:xfrm>
            <a:off x="2463840" y="90043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March - 2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92360" y="8067600"/>
            <a:ext cx="554004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MINERAL EXPLORATION and CONSULTANCY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(A  Government  of  India  Enterpri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NAGPUR (Maharashtra)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2371320" y="752004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ff"/>
                </a:solidFill>
                <a:latin typeface="Arial"/>
              </a:rPr>
              <a:t>A MINI RATNA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4"/>
          <p:cNvSpPr txBox="1"/>
          <p:nvPr/>
        </p:nvSpPr>
        <p:spPr>
          <a:xfrm>
            <a:off x="1981080" y="2590920"/>
            <a:ext cx="2971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MADHYAPRADESH</a:t>
            </a:r>
            <a:endParaRPr b="0" lang="en-US" sz="1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grpSp>
        <p:nvGrpSpPr>
          <p:cNvPr id="50" name="Group 53"/>
          <p:cNvGrpSpPr/>
          <p:nvPr/>
        </p:nvGrpSpPr>
        <p:grpSpPr>
          <a:xfrm>
            <a:off x="1015920" y="3124080"/>
            <a:ext cx="5114880" cy="3372120"/>
            <a:chOff x="1015920" y="3124080"/>
            <a:chExt cx="5114880" cy="3372120"/>
          </a:xfrm>
        </p:grpSpPr>
        <p:pic>
          <p:nvPicPr>
            <p:cNvPr id="51" name="Picture 48" descr="India Map-new"/>
            <p:cNvPicPr/>
            <p:nvPr/>
          </p:nvPicPr>
          <p:blipFill>
            <a:blip r:embed="rId3"/>
            <a:srcRect l="33074" t="9745" r="39216" b="3450"/>
            <a:stretch/>
          </p:blipFill>
          <p:spPr>
            <a:xfrm>
              <a:off x="1111320" y="3200400"/>
              <a:ext cx="266688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" name="Rectangle 52"/>
            <p:cNvSpPr/>
            <p:nvPr/>
          </p:nvSpPr>
          <p:spPr>
            <a:xfrm>
              <a:off x="1015920" y="3124080"/>
              <a:ext cx="5114880" cy="337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2" descr="F:\Katori Jiriya\Report\Maps\Elevation map.jpg"/>
          <p:cNvPicPr/>
          <p:nvPr/>
        </p:nvPicPr>
        <p:blipFill>
          <a:blip r:embed="rId4"/>
          <a:stretch/>
        </p:blipFill>
        <p:spPr>
          <a:xfrm>
            <a:off x="3809880" y="4751280"/>
            <a:ext cx="2286000" cy="162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" name="Picture 2" descr="F:\Katori Jiriya\Report\Maps\Layout Map.jpg"/>
          <p:cNvPicPr/>
          <p:nvPr/>
        </p:nvPicPr>
        <p:blipFill>
          <a:blip r:embed="rId5"/>
          <a:stretch/>
        </p:blipFill>
        <p:spPr>
          <a:xfrm>
            <a:off x="3809880" y="3200400"/>
            <a:ext cx="2286000" cy="153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Rectangle 18"/>
          <p:cNvSpPr/>
          <p:nvPr/>
        </p:nvSpPr>
        <p:spPr>
          <a:xfrm>
            <a:off x="4800600" y="4622760"/>
            <a:ext cx="4572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4800600" y="6248520"/>
            <a:ext cx="5335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F:\Katori Jiriya\Report\Maps\Layout Map on Google Earth.jpg"/>
          <p:cNvPicPr/>
          <p:nvPr/>
        </p:nvPicPr>
        <p:blipFill>
          <a:blip r:embed="rId6"/>
          <a:srcRect l="4803" t="0" r="4331" b="8359"/>
          <a:stretch/>
        </p:blipFill>
        <p:spPr>
          <a:xfrm>
            <a:off x="2514600" y="5257800"/>
            <a:ext cx="762120" cy="5446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23"/>
          <p:cNvCxnSpPr/>
          <p:nvPr/>
        </p:nvCxnSpPr>
        <p:spPr>
          <a:xfrm>
            <a:off x="2133720" y="4724280"/>
            <a:ext cx="4579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6"/>
          <p:cNvCxnSpPr/>
          <p:nvPr/>
        </p:nvCxnSpPr>
        <p:spPr>
          <a:xfrm>
            <a:off x="2133360" y="4724280"/>
            <a:ext cx="10674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5:40:41Z</dcterms:created>
  <dc:creator>ITC-3</dc:creator>
  <dc:description/>
  <dc:language>en-US</dc:language>
  <cp:lastModifiedBy>Windows User</cp:lastModifiedBy>
  <dcterms:modified xsi:type="dcterms:W3CDTF">2024-04-23T05:00:01Z</dcterms:modified>
  <cp:revision>52</cp:revision>
  <dc:subject/>
  <dc:title>PowerPoint Presentation</dc:title>
</cp:coreProperties>
</file>